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E96-7565-425E-A995-28FA79C6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0D3-74DD-4725-ADB9-868118E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2C9-2C3D-4336-BB52-3193CD1B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DB5-9334-462B-8C96-21FA21A8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870-4A8E-426A-9C6D-8EDB27E8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F87-5B84-470B-A535-32B17FFB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2B9-50A0-47D7-9565-2C4F8513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403-2DB3-4C44-A5D3-57C97FF5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69A-A458-4DCE-8A0B-A48AC9C9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0E8-0F6B-4423-BB62-CA0E83D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86F-194E-44F3-BAB3-B423906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82B-91A4-455A-B500-B8419C86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6E06-8415-4297-9AD5-68D8F7379F6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valstudie Mobiele Multi-Agent Syste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49280" y="6005520"/>
            <a:ext cx="340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rner Van 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ije Universiteit Bruss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1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20" y="1631880"/>
            <a:ext cx="4604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:remotedict(“tecra/ses2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reatecb(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detanswer(welk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display(wel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lone()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b:createc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.calcdet([[1,8],[5,6]],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.calcdet([[1,28],[4,96]],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85840" y="1554120"/>
            <a:ext cx="399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t:remotedict(“duh.tecr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alcdet(matrx,cb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gentmove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b.detanswer(matr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61080" y="92880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cra/se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800" y="92880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cra/se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990720"/>
            <a:ext cx="0" cy="52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nvironments, Diction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thod Invoc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2590920"/>
            <a:ext cx="19810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9560" y="3551400"/>
            <a:ext cx="51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ocatie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op Runtim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3480" y="4618080"/>
            <a:ext cx="685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frame noemen w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CTIONARY (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CT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MO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ctionaries (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RDC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erialisatie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00" y="249876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9960" y="396252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1371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44792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8036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6200" y="25750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2160" y="34131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8080" y="396252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2160" y="396252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7432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019920" y="2819160"/>
            <a:ext cx="7617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971800"/>
            <a:ext cx="7617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1911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1911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1911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9760" y="1538280"/>
            <a:ext cx="9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13160" y="1538280"/>
            <a:ext cx="142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84960" y="153828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220968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erialisati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000" y="249876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1148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60020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94400" y="28036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6200" y="25750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2160" y="4648320"/>
            <a:ext cx="192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7432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9718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019920" y="2819160"/>
            <a:ext cx="7617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441972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8769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876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7480" y="1538280"/>
            <a:ext cx="9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89480" y="1538280"/>
            <a:ext cx="142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84960" y="153828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8080" y="4479840"/>
            <a:ext cx="97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0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7680" y="34131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18080" y="37180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89880" y="34894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6576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8862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886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943600" y="37335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20968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080" y="52560"/>
            <a:ext cx="11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u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000" y="3519360"/>
            <a:ext cx="513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andert zijn naam automatisc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440" y="5043600"/>
            <a:ext cx="325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Name lookup nodi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56120" y="3976560"/>
            <a:ext cx="333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e agents bereik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7120" y="1766880"/>
            <a:ext cx="644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andert een agent zijn adres na migrati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590920" y="2286000"/>
            <a:ext cx="9144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228600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81080" y="4038480"/>
            <a:ext cx="76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1360" y="5470560"/>
            <a:ext cx="233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ser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4038480"/>
            <a:ext cx="15238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31920" y="2803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3724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41200" y="43275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27560" y="4327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cation Transpar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res van een agent wijzigt niet na mig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gratie moet minimale performantie impact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res moet zelf te kiezen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83120" y="4403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5160" y="4549680"/>
            <a:ext cx="21189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34680" y="4854600"/>
            <a:ext cx="21189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07080" y="49309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78080" y="31021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88120" y="1730520"/>
            <a:ext cx="199692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080" y="1577880"/>
            <a:ext cx="3501360" cy="824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ub1.tecr.a/ses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greren naar sub2.tecr.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83120" y="4403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4680" y="4854600"/>
            <a:ext cx="21189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07080" y="49309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8080" y="3102120"/>
            <a:ext cx="22258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88120" y="1730520"/>
            <a:ext cx="199692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83120" y="4403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30720" y="4854600"/>
            <a:ext cx="2530440" cy="118980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07080" y="4930920"/>
            <a:ext cx="19972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78080" y="3102120"/>
            <a:ext cx="24544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88120" y="1730520"/>
            <a:ext cx="199692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124080"/>
            <a:ext cx="0" cy="381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9160" y="1577880"/>
            <a:ext cx="3627720" cy="82404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als we sub1.tecr.a/ses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greren naar sub3.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83120" y="4403880"/>
            <a:ext cx="143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30720" y="4854600"/>
            <a:ext cx="253044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7080" y="4930920"/>
            <a:ext cx="2225880" cy="46980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78080" y="3102120"/>
            <a:ext cx="24544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88120" y="1730520"/>
            <a:ext cx="253044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257800" y="3200040"/>
            <a:ext cx="304920" cy="304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biele Multi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Actiev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software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ie in staat is te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municer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met andere agents en die ka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migrer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ussen verschillende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user interfac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telligent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800600"/>
            <a:ext cx="312408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30840" y="2651040"/>
            <a:ext cx="85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3600" y="409896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83120" y="4403880"/>
            <a:ext cx="1431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84240" y="447984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3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41240" y="127944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1200" y="4549680"/>
            <a:ext cx="260676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30720" y="4854600"/>
            <a:ext cx="2530440" cy="82404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2.tecr.a/se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4930920"/>
            <a:ext cx="22258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78080" y="3102120"/>
            <a:ext cx="245448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88120" y="1730520"/>
            <a:ext cx="2530440" cy="458280"/>
          </a:xfrm>
          <a:prstGeom prst="rect">
            <a:avLst/>
          </a:prstGeom>
          <a:solidFill>
            <a:srgbClr val="66ff3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sub1.tecr.a/se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81080" y="3581280"/>
            <a:ext cx="1371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812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266720" y="220968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2209680"/>
            <a:ext cx="914400" cy="221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90920" y="4647960"/>
            <a:ext cx="304560" cy="22860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57800" y="3200040"/>
            <a:ext cx="304920" cy="30492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828800"/>
            <a:ext cx="0" cy="38088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ordin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MI/RPC te beper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coordinatie tussen ag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llbacks omslacht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88240" y="4738680"/>
            <a:ext cx="264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riant</a:t>
            </a:r>
            <a:r>
              <a:rPr b="0" lang="nl-NL" sz="4800" spc="-1" strike="noStrike">
                <a:solidFill>
                  <a:srgbClr val="000000"/>
                </a:solidFill>
                <a:latin typeface="Times New Roman"/>
              </a:rPr>
              <a:t> CS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5105520"/>
            <a:ext cx="129564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r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Rec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ndez 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hod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emaf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pecial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q (be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biel Multi-Agent Syste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de taal/library die mobiele multi agents onderste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communi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cess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tentie van P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cheme with Objec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totype gebasseerde 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arbage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ulti Th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ducat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reatepoint(x,y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rintx()::display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rinty()::display(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etx(nx)::x:=n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ety(ny)::y:=n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lon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:createpoint(1,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.print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org 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d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ta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ntim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je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kele 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mmunicatie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munic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mote Object C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synch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ll by deep value/Serialis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3840" y="4465800"/>
            <a:ext cx="530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urier New"/>
              </a:rPr>
              <a:t>&lt;agent&gt;.&lt;func&gt;(&lt;par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opi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gent stopt zelf zijn uitvoering en wordt dan her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nkel de agent kan zichzelf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lescrip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agent, inclusief state, kan worden stil gele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nager agents worden mogelij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biliteit is exploiteer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lescrip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mote Connecties blijven gel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ialisatie/Deserialis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4040" y="4160880"/>
            <a:ext cx="77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urier New"/>
              </a:rPr>
              <a:t>agentmove(&lt;plac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urier New"/>
              </a:rPr>
              <a:t>&lt;otheragent&gt;.agentmove(&lt;plac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00:24:36Z</dcterms:created>
  <dc:creator>EDS Belgium N.V.</dc:creator>
  <dc:description/>
  <dc:language>en-US</dc:language>
  <cp:lastModifiedBy>Nensie</cp:lastModifiedBy>
  <dcterms:modified xsi:type="dcterms:W3CDTF">2001-05-06T11:59:35Z</dcterms:modified>
  <cp:revision>16</cp:revision>
  <dc:subject/>
  <dc:title>Positie Optimalisaties Mobiele Multi Agent Systemen</dc:title>
</cp:coreProperties>
</file>